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2D86-98EB-4C89-92DA-18FDC6A86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C5E9-2622-4CDC-8852-3F554BF2F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354D-CF60-48FA-B1E2-DFEC097DB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76E6-8C46-4BA2-94DF-D4E946019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108053-80E6-4B6B-A0A7-A4EE5C468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C47D21-BA5B-4B07-8D87-B9EC47C85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924498-6114-41FF-BE21-FE6BBC297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46037D-B90E-4FA8-A5CC-F9532719B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82A7C1-9BBC-4421-B562-CE0DA11E5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A831A8-7CEB-4E39-97E6-F582A47BF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164CF1-155A-47B7-991A-4B61D3D5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799B-1E14-484E-8DD8-96FF6924D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45EF99-C96B-478B-865B-CAF457B12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DFEA6D-E49C-4656-AC5E-C7E5FACE0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3B5AE0-BD2B-4E00-8D37-52036B5BF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010193-CA6F-4393-9AA4-1FC4AFADC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10A6F7-4FFE-406D-AC29-F354AB436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99DA-040D-4E7B-B65C-6062B76B5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5CF4-97BE-4F2F-B6B1-085251CF7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E2A6-AB74-440B-9AEE-90D7122D1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CE58-39D5-46D6-B8AA-44EB6DF71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A5C1-A437-4950-B1CD-2D73B386D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CC8D-E0FB-4121-BED7-0405F3509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36E3-D349-430B-A67A-68965DA9E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A905E-2386-4636-B0F0-510EC12AF43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5055C-84E4-488A-B5CE-531EC58A443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buffalonewyorktourism.com/images/ItalyFlag.jpg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Los animales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por Eric and Steven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 Tigre dientes de s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886200" y="1523880"/>
            <a:ext cx="5257800" cy="45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Los pais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a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2133720"/>
            <a:ext cx="3314880" cy="3429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4343400" y="2286000"/>
            <a:ext cx="4533840" cy="30193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879440" y="152388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x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15:27:28Z</dcterms:created>
  <dc:creator>WSFCS Workstation</dc:creator>
  <dc:description/>
  <dc:language>en-US</dc:language>
  <cp:lastModifiedBy>WSFCS Workstation</cp:lastModifiedBy>
  <dcterms:modified xsi:type="dcterms:W3CDTF">2010-04-26T15:55:44Z</dcterms:modified>
  <cp:revision>3</cp:revision>
  <dc:subject/>
  <dc:title>Los animales</dc:title>
</cp:coreProperties>
</file>